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8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3.jpeg" ContentType="image/jpeg"/>
  <Override PartName="/ppt/media/image35.png" ContentType="image/png"/>
  <Override PartName="/ppt/media/image5.png" ContentType="image/png"/>
  <Override PartName="/ppt/media/image16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4C5-CB0D-4013-9D7F-DE36CC18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EBB-8A6A-4EEA-BA1C-7FC6DF4F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C08-68EB-4080-A70E-543ACA3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743-52E7-4024-BA49-A2A52E93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938-1721-4881-B7ED-6B0B53F3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5AA-BEE7-4198-A71A-DB2E7F9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889-7017-497A-8BCB-F2CC6A8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E18-022D-4563-BF2C-FF215A7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871-B608-4531-8409-476A89D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3A9-87A3-481F-8BFE-B20EF1D5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D86-CAAC-4008-9EA7-B5A58EAE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45F-A6EC-4140-9C0B-0A962896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94FC-6135-4DEE-BC71-51A68455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CA08-8A3B-44D9-A152-359C2F2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0BE7-39A9-4B8A-A2E0-A50342DE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CCC8-EFAB-4524-9708-0AFFBB8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CA97-D836-4B9A-B63A-0EDCF3E5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57BD-E43D-4E20-9430-273F1418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1758-C71D-4ED8-8DAE-977C6C0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57E-11C6-44D7-949F-83A9513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E8C-E8A1-4295-AC30-A7D3A61A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C88-EB89-4E2C-8A50-1984DB5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08D4-66AF-4A9C-B535-D9D91C26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41A-E8F8-4114-AD26-082A9066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56A9-A40F-4A97-8C4F-690CBEA6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B7CF-D543-447F-A53E-3CB43471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9CF8-1604-45BE-B409-6B9412AC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423C-E41C-4E2E-AE4F-664DA129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9ED0-5CD8-4FAF-BB6A-7FEC5130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6346-782B-4ABC-82A7-84BCF8E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99A7-8EB8-4625-B3B6-8A46B9A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2D28-CF9E-4011-98D8-69854C5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B728-C644-4CC4-8F1F-C2EFA9E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E1D1-56FD-42B5-9C0E-41B014E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14F8-AA0E-402F-A15D-FFEE9F4E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628F-5781-4777-990E-8B56CA29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C035-0194-4513-92B0-F92BD71D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A314-0E52-43DC-BDD3-B856B378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F949-F0E5-4BC3-B3E1-F7F170D7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BD81-E912-4099-8167-6B55D74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BA0B-FCA6-4FEB-8E58-FBE7A78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2930-26C2-485E-8CCD-CD5C776D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2755-3D00-46FE-9D63-22E07FA2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F1C5-FD7F-44B8-A2F6-CB12934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DB0B-16A2-4B97-A554-E88818D3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0D42-9BB0-45C5-B2FD-A5EF139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A182-1F3B-44A4-87CD-71D41E14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2AEA-E992-4122-87F2-5399D506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17BA-7F9E-4FDB-855F-D067288B81AF}" type="slidenum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4B9-CCC0-4AB9-B8EF-E6EE863C2FC8}" type="slidenum"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BAA1-1521-4495-BB61-1C7CE1A20ED2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888C-F7D3-445F-B6A1-0FF5EA0AEF9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1797120" y="2806560"/>
            <a:ext cx="565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.1.2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等式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098720" y="2152800"/>
            <a:ext cx="694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利用不等式的性质解下列不等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1)x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７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2)3x&lt;2x+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3)  x﹥5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　　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4)-4x﹥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3"/>
          <p:cNvGraphicFramePr/>
          <p:nvPr/>
        </p:nvGraphicFramePr>
        <p:xfrm>
          <a:off x="1689120" y="330048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30048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Picture 4" descr="QQ截图20141118153031"/>
          <p:cNvPicPr/>
          <p:nvPr/>
        </p:nvPicPr>
        <p:blipFill>
          <a:blip r:embed="rId3"/>
          <a:stretch/>
        </p:blipFill>
        <p:spPr>
          <a:xfrm>
            <a:off x="655560" y="1415880"/>
            <a:ext cx="22194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"/>
          <p:cNvSpPr/>
          <p:nvPr/>
        </p:nvSpPr>
        <p:spPr>
          <a:xfrm>
            <a:off x="1036800" y="1306440"/>
            <a:ext cx="720072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析：解未知数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不等式，就是要使不等式逐步化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﹥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﹤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形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了使不等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７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不等号的一边变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根据不等式的性质１，不等式两边都加７，不等号的方向不变，得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７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6+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﹥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049400" y="498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个不等式的解集在数轴上的表示如图所示：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284560" y="5456160"/>
            <a:ext cx="4465080" cy="858240"/>
            <a:chOff x="2284560" y="5456160"/>
            <a:chExt cx="4465080" cy="858240"/>
          </a:xfrm>
        </p:grpSpPr>
        <p:sp>
          <p:nvSpPr>
            <p:cNvPr id="324" name="Text Box 8"/>
            <p:cNvSpPr/>
            <p:nvPr/>
          </p:nvSpPr>
          <p:spPr>
            <a:xfrm>
              <a:off x="3076200" y="5854680"/>
              <a:ext cx="21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004920" y="585468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4373280" y="585468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2284560" y="588780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3149280" y="58150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3868560" y="5456160"/>
              <a:ext cx="28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>
              <a:off x="4532040" y="5825880"/>
              <a:ext cx="102960" cy="1051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 flipV="1">
              <a:off x="4589280" y="5646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>
              <a:off x="4589280" y="56466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Oval 18"/>
          <p:cNvSpPr/>
          <p:nvPr/>
        </p:nvSpPr>
        <p:spPr>
          <a:xfrm>
            <a:off x="4535640" y="5813280"/>
            <a:ext cx="129960" cy="13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568440" y="1571760"/>
            <a:ext cx="81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为了使不等式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3x&lt;2x+1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中不等号的一边变为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根据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_____________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不等式两边都减去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____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不等号的方向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_____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174760" y="271152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x-2x﹤2x+1-2x           x﹤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990720" y="39067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个不等式的解集在数轴上的表示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8"/>
          <p:cNvGrpSpPr/>
          <p:nvPr/>
        </p:nvGrpSpPr>
        <p:grpSpPr>
          <a:xfrm>
            <a:off x="1535040" y="4626000"/>
            <a:ext cx="3543480" cy="915120"/>
            <a:chOff x="1535040" y="4626000"/>
            <a:chExt cx="3543480" cy="915120"/>
          </a:xfrm>
        </p:grpSpPr>
        <p:sp>
          <p:nvSpPr>
            <p:cNvPr id="338" name="Line 9"/>
            <p:cNvSpPr/>
            <p:nvPr/>
          </p:nvSpPr>
          <p:spPr>
            <a:xfrm>
              <a:off x="1535040" y="5081400"/>
              <a:ext cx="354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72880" y="4626000"/>
              <a:ext cx="513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1"/>
            <p:cNvSpPr/>
            <p:nvPr/>
          </p:nvSpPr>
          <p:spPr>
            <a:xfrm>
              <a:off x="3024000" y="498996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"/>
            <p:cNvSpPr/>
            <p:nvPr/>
          </p:nvSpPr>
          <p:spPr>
            <a:xfrm>
              <a:off x="3949560" y="476244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3"/>
            <p:cNvSpPr/>
            <p:nvPr/>
          </p:nvSpPr>
          <p:spPr>
            <a:xfrm flipH="1">
              <a:off x="2458800" y="4762440"/>
              <a:ext cx="148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2921040" y="5081400"/>
              <a:ext cx="2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5"/>
            <p:cNvSpPr/>
            <p:nvPr/>
          </p:nvSpPr>
          <p:spPr>
            <a:xfrm>
              <a:off x="3846240" y="5081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6"/>
            <p:cNvSpPr/>
            <p:nvPr/>
          </p:nvSpPr>
          <p:spPr>
            <a:xfrm>
              <a:off x="3897360" y="5036400"/>
              <a:ext cx="10296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17"/>
          <p:cNvSpPr/>
          <p:nvPr/>
        </p:nvSpPr>
        <p:spPr>
          <a:xfrm>
            <a:off x="703440" y="2071800"/>
            <a:ext cx="31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等式性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5445000" y="2116080"/>
            <a:ext cx="1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620640" y="260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907920" y="1494000"/>
            <a:ext cx="842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为了使不等式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﹥5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不等号的一边变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根据不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式的性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不等式的两边都除以　不等号的方向不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405080" y="27255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﹥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909720" y="32353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这个不等式的解集在数轴上的表示如图所示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4"/>
          <p:cNvGrpSpPr/>
          <p:nvPr/>
        </p:nvGrpSpPr>
        <p:grpSpPr>
          <a:xfrm>
            <a:off x="2525760" y="4356000"/>
            <a:ext cx="3240000" cy="739080"/>
            <a:chOff x="2525760" y="4356000"/>
            <a:chExt cx="3240000" cy="739080"/>
          </a:xfrm>
        </p:grpSpPr>
        <p:sp>
          <p:nvSpPr>
            <p:cNvPr id="353" name="Text Box 10"/>
            <p:cNvSpPr/>
            <p:nvPr/>
          </p:nvSpPr>
          <p:spPr>
            <a:xfrm>
              <a:off x="2746440" y="463536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1"/>
            <p:cNvSpPr/>
            <p:nvPr/>
          </p:nvSpPr>
          <p:spPr>
            <a:xfrm>
              <a:off x="3898800" y="463536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>
              <a:off x="2525760" y="4676760"/>
              <a:ext cx="30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2911680" y="459576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5"/>
            <p:cNvSpPr/>
            <p:nvPr/>
          </p:nvSpPr>
          <p:spPr>
            <a:xfrm>
              <a:off x="4064040" y="435600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6"/>
            <p:cNvSpPr/>
            <p:nvPr/>
          </p:nvSpPr>
          <p:spPr>
            <a:xfrm>
              <a:off x="4064040" y="435600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7"/>
            <p:cNvSpPr/>
            <p:nvPr/>
          </p:nvSpPr>
          <p:spPr>
            <a:xfrm>
              <a:off x="4095720" y="4595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8"/>
            <p:cNvSpPr/>
            <p:nvPr/>
          </p:nvSpPr>
          <p:spPr>
            <a:xfrm>
              <a:off x="4008600" y="4638600"/>
              <a:ext cx="1094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1" name="Object 14"/>
          <p:cNvGraphicFramePr/>
          <p:nvPr/>
        </p:nvGraphicFramePr>
        <p:xfrm>
          <a:off x="3664080" y="150804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4080" y="150804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5"/>
          <p:cNvGraphicFramePr/>
          <p:nvPr/>
        </p:nvGraphicFramePr>
        <p:xfrm>
          <a:off x="5543640" y="2147760"/>
          <a:ext cx="203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214776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5" name="Picture 22" descr="04"/>
          <p:cNvPicPr/>
          <p:nvPr/>
        </p:nvPicPr>
        <p:blipFill>
          <a:blip r:embed="rId5"/>
          <a:stretch/>
        </p:blipFill>
        <p:spPr>
          <a:xfrm>
            <a:off x="547560" y="5819760"/>
            <a:ext cx="78282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552600" y="1554120"/>
            <a:ext cx="803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为了使不等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x﹥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的不等号的一边变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根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_____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___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不等式两边都除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不等号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_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3111480" y="32446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933480" y="39560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个不等式的解集在数轴上的表示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8"/>
          <p:cNvGrpSpPr/>
          <p:nvPr/>
        </p:nvGrpSpPr>
        <p:grpSpPr>
          <a:xfrm>
            <a:off x="2371680" y="4726080"/>
            <a:ext cx="4032360" cy="1280520"/>
            <a:chOff x="2371680" y="4726080"/>
            <a:chExt cx="4032360" cy="1280520"/>
          </a:xfrm>
        </p:grpSpPr>
        <p:sp>
          <p:nvSpPr>
            <p:cNvPr id="370" name="Text Box 9"/>
            <p:cNvSpPr/>
            <p:nvPr/>
          </p:nvSpPr>
          <p:spPr>
            <a:xfrm flipH="1">
              <a:off x="3429720" y="53578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"/>
            <p:cNvSpPr/>
            <p:nvPr/>
          </p:nvSpPr>
          <p:spPr>
            <a:xfrm>
              <a:off x="3906720" y="55468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2371680" y="5230800"/>
              <a:ext cx="40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>
              <a:off x="5037120" y="50864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4100400" y="47260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 flipH="1">
              <a:off x="2587680" y="472608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3833640" y="55962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6"/>
            <p:cNvSpPr/>
            <p:nvPr/>
          </p:nvSpPr>
          <p:spPr>
            <a:xfrm>
              <a:off x="3906720" y="515772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4892760" y="5230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4038480" y="5157720"/>
              <a:ext cx="112680" cy="10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19"/>
          <p:cNvSpPr/>
          <p:nvPr/>
        </p:nvSpPr>
        <p:spPr>
          <a:xfrm>
            <a:off x="876240" y="206856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等式的性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5850000" y="2087640"/>
            <a:ext cx="7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1233360" y="260820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19"/>
          <p:cNvGraphicFramePr/>
          <p:nvPr/>
        </p:nvGraphicFramePr>
        <p:xfrm>
          <a:off x="4019400" y="3159000"/>
          <a:ext cx="2336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3159000"/>
                    <a:ext cx="233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Group 23"/>
          <p:cNvGrpSpPr/>
          <p:nvPr/>
        </p:nvGrpSpPr>
        <p:grpSpPr>
          <a:xfrm>
            <a:off x="7016760" y="4675320"/>
            <a:ext cx="1427040" cy="1388880"/>
            <a:chOff x="7016760" y="4675320"/>
            <a:chExt cx="1427040" cy="1388880"/>
          </a:xfrm>
        </p:grpSpPr>
        <p:sp>
          <p:nvSpPr>
            <p:cNvPr id="386" name="AutoShape 24"/>
            <p:cNvSpPr/>
            <p:nvPr/>
          </p:nvSpPr>
          <p:spPr>
            <a:xfrm>
              <a:off x="7016760" y="4675320"/>
              <a:ext cx="14270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Picture 25" descr="flower3"/>
            <p:cNvPicPr/>
            <p:nvPr/>
          </p:nvPicPr>
          <p:blipFill>
            <a:blip r:embed="rId3"/>
            <a:stretch/>
          </p:blipFill>
          <p:spPr>
            <a:xfrm>
              <a:off x="7016760" y="4675320"/>
              <a:ext cx="963000" cy="9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6" descr="flower2"/>
            <p:cNvPicPr/>
            <p:nvPr/>
          </p:nvPicPr>
          <p:blipFill>
            <a:blip r:embed="rId4"/>
            <a:stretch/>
          </p:blipFill>
          <p:spPr>
            <a:xfrm>
              <a:off x="7593120" y="4681440"/>
              <a:ext cx="850320" cy="8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7" descr="flower4"/>
            <p:cNvPicPr/>
            <p:nvPr/>
          </p:nvPicPr>
          <p:blipFill>
            <a:blip r:embed="rId5"/>
            <a:stretch/>
          </p:blipFill>
          <p:spPr>
            <a:xfrm>
              <a:off x="7288200" y="5171040"/>
              <a:ext cx="1005480" cy="893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QQ截图20141124114259"/>
          <p:cNvPicPr/>
          <p:nvPr/>
        </p:nvPicPr>
        <p:blipFill>
          <a:blip r:embed="rId1"/>
          <a:stretch/>
        </p:blipFill>
        <p:spPr>
          <a:xfrm>
            <a:off x="222120" y="960480"/>
            <a:ext cx="1791000" cy="6192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1017720" y="2104920"/>
            <a:ext cx="716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类似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a≤b,a≥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样的式子，也经常用来表示两个数量大小关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938160" y="3454560"/>
            <a:ext cx="716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符号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“≤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读作“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小于或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也可说是“不大于”，符号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“≥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读作“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大于或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也可以说是“不小于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433520" y="1628640"/>
            <a:ext cx="51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利用不等式的性质解下列不等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417680" y="3087720"/>
            <a:ext cx="54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2)-2x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409840" y="3090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409760" y="2349360"/>
            <a:ext cx="54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1)x-5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2438280" y="2360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1400040" y="3886200"/>
            <a:ext cx="51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3)7x   6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231300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9" descr="182"/>
          <p:cNvPicPr/>
          <p:nvPr/>
        </p:nvPicPr>
        <p:blipFill>
          <a:blip r:embed="rId1"/>
          <a:stretch/>
        </p:blipFill>
        <p:spPr>
          <a:xfrm>
            <a:off x="665280" y="5589720"/>
            <a:ext cx="7848360" cy="596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QQ截图20140828112236"/>
          <p:cNvPicPr/>
          <p:nvPr/>
        </p:nvPicPr>
        <p:blipFill>
          <a:blip r:embed="rId2"/>
          <a:stretch/>
        </p:blipFill>
        <p:spPr>
          <a:xfrm>
            <a:off x="750960" y="9367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824040" y="155088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154240" y="2101680"/>
            <a:ext cx="498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边都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184480" y="322596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155680" y="3786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690640" y="37767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940280" y="2093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430440" y="25779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加上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3"/>
          <p:cNvGrpSpPr/>
          <p:nvPr/>
        </p:nvGrpSpPr>
        <p:grpSpPr>
          <a:xfrm>
            <a:off x="731880" y="5265720"/>
            <a:ext cx="7701840" cy="877680"/>
            <a:chOff x="731880" y="5265720"/>
            <a:chExt cx="7701840" cy="877680"/>
          </a:xfrm>
        </p:grpSpPr>
        <p:sp>
          <p:nvSpPr>
            <p:cNvPr id="410" name="Freeform 14"/>
            <p:cNvSpPr/>
            <p:nvPr/>
          </p:nvSpPr>
          <p:spPr>
            <a:xfrm>
              <a:off x="731880" y="5415120"/>
              <a:ext cx="1541880" cy="4194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5"/>
            <p:cNvSpPr/>
            <p:nvPr/>
          </p:nvSpPr>
          <p:spPr>
            <a:xfrm>
              <a:off x="731880" y="5809320"/>
              <a:ext cx="153936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"/>
            <p:cNvSpPr/>
            <p:nvPr/>
          </p:nvSpPr>
          <p:spPr>
            <a:xfrm>
              <a:off x="5379840" y="5399640"/>
              <a:ext cx="305388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"/>
            <p:cNvSpPr/>
            <p:nvPr/>
          </p:nvSpPr>
          <p:spPr>
            <a:xfrm>
              <a:off x="5377320" y="583488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8"/>
            <p:cNvSpPr/>
            <p:nvPr/>
          </p:nvSpPr>
          <p:spPr>
            <a:xfrm>
              <a:off x="5377320" y="56502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9"/>
            <p:cNvSpPr/>
            <p:nvPr/>
          </p:nvSpPr>
          <p:spPr>
            <a:xfrm>
              <a:off x="54766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0"/>
            <p:cNvSpPr/>
            <p:nvPr/>
          </p:nvSpPr>
          <p:spPr>
            <a:xfrm>
              <a:off x="5581440" y="56502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"/>
            <p:cNvSpPr/>
            <p:nvPr/>
          </p:nvSpPr>
          <p:spPr>
            <a:xfrm>
              <a:off x="5377320" y="56991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2"/>
            <p:cNvSpPr/>
            <p:nvPr/>
          </p:nvSpPr>
          <p:spPr>
            <a:xfrm>
              <a:off x="5377320" y="5788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3"/>
            <p:cNvSpPr/>
            <p:nvPr/>
          </p:nvSpPr>
          <p:spPr>
            <a:xfrm>
              <a:off x="7371720" y="56502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"/>
            <p:cNvSpPr/>
            <p:nvPr/>
          </p:nvSpPr>
          <p:spPr>
            <a:xfrm>
              <a:off x="74710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5"/>
            <p:cNvSpPr/>
            <p:nvPr/>
          </p:nvSpPr>
          <p:spPr>
            <a:xfrm>
              <a:off x="757620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6"/>
            <p:cNvSpPr/>
            <p:nvPr/>
          </p:nvSpPr>
          <p:spPr>
            <a:xfrm>
              <a:off x="768096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7"/>
            <p:cNvSpPr/>
            <p:nvPr/>
          </p:nvSpPr>
          <p:spPr>
            <a:xfrm>
              <a:off x="7785720" y="5650200"/>
              <a:ext cx="6876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8"/>
            <p:cNvSpPr/>
            <p:nvPr/>
          </p:nvSpPr>
          <p:spPr>
            <a:xfrm>
              <a:off x="7890480" y="5661360"/>
              <a:ext cx="68760" cy="207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9"/>
            <p:cNvSpPr/>
            <p:nvPr/>
          </p:nvSpPr>
          <p:spPr>
            <a:xfrm>
              <a:off x="7998120" y="5672520"/>
              <a:ext cx="66240" cy="218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"/>
            <p:cNvSpPr/>
            <p:nvPr/>
          </p:nvSpPr>
          <p:spPr>
            <a:xfrm>
              <a:off x="8102880" y="5686200"/>
              <a:ext cx="66240" cy="2365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1"/>
            <p:cNvSpPr/>
            <p:nvPr/>
          </p:nvSpPr>
          <p:spPr>
            <a:xfrm>
              <a:off x="8207640" y="5707440"/>
              <a:ext cx="66240" cy="26028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2"/>
            <p:cNvSpPr/>
            <p:nvPr/>
          </p:nvSpPr>
          <p:spPr>
            <a:xfrm>
              <a:off x="8312760" y="5731200"/>
              <a:ext cx="66240" cy="30204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3"/>
            <p:cNvSpPr/>
            <p:nvPr/>
          </p:nvSpPr>
          <p:spPr>
            <a:xfrm>
              <a:off x="8417160" y="5783040"/>
              <a:ext cx="16560" cy="2977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4"/>
            <p:cNvSpPr/>
            <p:nvPr/>
          </p:nvSpPr>
          <p:spPr>
            <a:xfrm>
              <a:off x="7336080" y="5699160"/>
              <a:ext cx="109764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5"/>
            <p:cNvSpPr/>
            <p:nvPr/>
          </p:nvSpPr>
          <p:spPr>
            <a:xfrm>
              <a:off x="7336080" y="5788440"/>
              <a:ext cx="1097640" cy="215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"/>
            <p:cNvSpPr/>
            <p:nvPr/>
          </p:nvSpPr>
          <p:spPr>
            <a:xfrm>
              <a:off x="5669640" y="56502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7"/>
            <p:cNvSpPr/>
            <p:nvPr/>
          </p:nvSpPr>
          <p:spPr>
            <a:xfrm>
              <a:off x="576900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8"/>
            <p:cNvSpPr/>
            <p:nvPr/>
          </p:nvSpPr>
          <p:spPr>
            <a:xfrm>
              <a:off x="587412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9"/>
            <p:cNvSpPr/>
            <p:nvPr/>
          </p:nvSpPr>
          <p:spPr>
            <a:xfrm>
              <a:off x="5669640" y="56991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40"/>
            <p:cNvSpPr/>
            <p:nvPr/>
          </p:nvSpPr>
          <p:spPr>
            <a:xfrm>
              <a:off x="5669640" y="5788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1"/>
            <p:cNvSpPr/>
            <p:nvPr/>
          </p:nvSpPr>
          <p:spPr>
            <a:xfrm>
              <a:off x="5962320" y="56502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2"/>
            <p:cNvSpPr/>
            <p:nvPr/>
          </p:nvSpPr>
          <p:spPr>
            <a:xfrm>
              <a:off x="605844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3"/>
            <p:cNvSpPr/>
            <p:nvPr/>
          </p:nvSpPr>
          <p:spPr>
            <a:xfrm>
              <a:off x="61660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4"/>
            <p:cNvSpPr/>
            <p:nvPr/>
          </p:nvSpPr>
          <p:spPr>
            <a:xfrm>
              <a:off x="5962320" y="56991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5"/>
            <p:cNvSpPr/>
            <p:nvPr/>
          </p:nvSpPr>
          <p:spPr>
            <a:xfrm>
              <a:off x="5962320" y="5788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6"/>
            <p:cNvSpPr/>
            <p:nvPr/>
          </p:nvSpPr>
          <p:spPr>
            <a:xfrm>
              <a:off x="6254280" y="5650200"/>
              <a:ext cx="662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7"/>
            <p:cNvSpPr/>
            <p:nvPr/>
          </p:nvSpPr>
          <p:spPr>
            <a:xfrm>
              <a:off x="63514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8"/>
            <p:cNvSpPr/>
            <p:nvPr/>
          </p:nvSpPr>
          <p:spPr>
            <a:xfrm>
              <a:off x="64558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9"/>
            <p:cNvSpPr/>
            <p:nvPr/>
          </p:nvSpPr>
          <p:spPr>
            <a:xfrm>
              <a:off x="6254280" y="56991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0"/>
            <p:cNvSpPr/>
            <p:nvPr/>
          </p:nvSpPr>
          <p:spPr>
            <a:xfrm>
              <a:off x="6254280" y="5788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1"/>
            <p:cNvSpPr/>
            <p:nvPr/>
          </p:nvSpPr>
          <p:spPr>
            <a:xfrm>
              <a:off x="6544080" y="56502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2"/>
            <p:cNvSpPr/>
            <p:nvPr/>
          </p:nvSpPr>
          <p:spPr>
            <a:xfrm>
              <a:off x="664344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3"/>
            <p:cNvSpPr/>
            <p:nvPr/>
          </p:nvSpPr>
          <p:spPr>
            <a:xfrm>
              <a:off x="674856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54"/>
            <p:cNvSpPr/>
            <p:nvPr/>
          </p:nvSpPr>
          <p:spPr>
            <a:xfrm>
              <a:off x="6544080" y="569916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55"/>
            <p:cNvSpPr/>
            <p:nvPr/>
          </p:nvSpPr>
          <p:spPr>
            <a:xfrm>
              <a:off x="6544080" y="578844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6"/>
            <p:cNvSpPr/>
            <p:nvPr/>
          </p:nvSpPr>
          <p:spPr>
            <a:xfrm>
              <a:off x="683676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7"/>
            <p:cNvSpPr/>
            <p:nvPr/>
          </p:nvSpPr>
          <p:spPr>
            <a:xfrm>
              <a:off x="6935760" y="565020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8"/>
            <p:cNvSpPr/>
            <p:nvPr/>
          </p:nvSpPr>
          <p:spPr>
            <a:xfrm>
              <a:off x="70408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59"/>
            <p:cNvSpPr/>
            <p:nvPr/>
          </p:nvSpPr>
          <p:spPr>
            <a:xfrm>
              <a:off x="6836760" y="56991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0"/>
            <p:cNvSpPr/>
            <p:nvPr/>
          </p:nvSpPr>
          <p:spPr>
            <a:xfrm>
              <a:off x="6836760" y="5788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1"/>
            <p:cNvSpPr/>
            <p:nvPr/>
          </p:nvSpPr>
          <p:spPr>
            <a:xfrm>
              <a:off x="712908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2"/>
            <p:cNvSpPr/>
            <p:nvPr/>
          </p:nvSpPr>
          <p:spPr>
            <a:xfrm>
              <a:off x="7228440" y="56502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3"/>
            <p:cNvSpPr/>
            <p:nvPr/>
          </p:nvSpPr>
          <p:spPr>
            <a:xfrm>
              <a:off x="7332840" y="565020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4"/>
            <p:cNvSpPr/>
            <p:nvPr/>
          </p:nvSpPr>
          <p:spPr>
            <a:xfrm>
              <a:off x="7129080" y="56991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5"/>
            <p:cNvSpPr/>
            <p:nvPr/>
          </p:nvSpPr>
          <p:spPr>
            <a:xfrm>
              <a:off x="7129080" y="5788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6"/>
            <p:cNvSpPr/>
            <p:nvPr/>
          </p:nvSpPr>
          <p:spPr>
            <a:xfrm>
              <a:off x="7418520" y="5356440"/>
              <a:ext cx="838800" cy="5871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7"/>
            <p:cNvSpPr/>
            <p:nvPr/>
          </p:nvSpPr>
          <p:spPr>
            <a:xfrm>
              <a:off x="7181640" y="5265720"/>
              <a:ext cx="11746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"/>
            <p:cNvSpPr/>
            <p:nvPr/>
          </p:nvSpPr>
          <p:spPr>
            <a:xfrm>
              <a:off x="2273760" y="5403960"/>
              <a:ext cx="3103560" cy="430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9"/>
            <p:cNvSpPr/>
            <p:nvPr/>
          </p:nvSpPr>
          <p:spPr>
            <a:xfrm>
              <a:off x="2342520" y="5388480"/>
              <a:ext cx="485280" cy="446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0"/>
            <p:cNvSpPr/>
            <p:nvPr/>
          </p:nvSpPr>
          <p:spPr>
            <a:xfrm>
              <a:off x="2533320" y="5521320"/>
              <a:ext cx="1045080" cy="31320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1"/>
            <p:cNvSpPr/>
            <p:nvPr/>
          </p:nvSpPr>
          <p:spPr>
            <a:xfrm>
              <a:off x="2524680" y="5494680"/>
              <a:ext cx="1064520" cy="1861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72"/>
            <p:cNvSpPr/>
            <p:nvPr/>
          </p:nvSpPr>
          <p:spPr>
            <a:xfrm>
              <a:off x="2563560" y="569196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3"/>
            <p:cNvSpPr/>
            <p:nvPr/>
          </p:nvSpPr>
          <p:spPr>
            <a:xfrm>
              <a:off x="2739960" y="5494680"/>
              <a:ext cx="84924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74"/>
            <p:cNvSpPr/>
            <p:nvPr/>
          </p:nvSpPr>
          <p:spPr>
            <a:xfrm>
              <a:off x="2588400" y="5703120"/>
              <a:ext cx="31392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5"/>
            <p:cNvSpPr/>
            <p:nvPr/>
          </p:nvSpPr>
          <p:spPr>
            <a:xfrm>
              <a:off x="2271240" y="5834880"/>
              <a:ext cx="310572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6"/>
            <p:cNvSpPr/>
            <p:nvPr/>
          </p:nvSpPr>
          <p:spPr>
            <a:xfrm>
              <a:off x="3520440" y="5302080"/>
              <a:ext cx="1199880" cy="2865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7"/>
            <p:cNvSpPr/>
            <p:nvPr/>
          </p:nvSpPr>
          <p:spPr>
            <a:xfrm>
              <a:off x="3531960" y="5389920"/>
              <a:ext cx="1481400" cy="4446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8"/>
            <p:cNvSpPr/>
            <p:nvPr/>
          </p:nvSpPr>
          <p:spPr>
            <a:xfrm>
              <a:off x="3556800" y="5631840"/>
              <a:ext cx="86004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9"/>
            <p:cNvSpPr/>
            <p:nvPr/>
          </p:nvSpPr>
          <p:spPr>
            <a:xfrm>
              <a:off x="4767480" y="5756400"/>
              <a:ext cx="48024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0"/>
            <p:cNvSpPr/>
            <p:nvPr/>
          </p:nvSpPr>
          <p:spPr>
            <a:xfrm>
              <a:off x="4767480" y="5627520"/>
              <a:ext cx="20448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81"/>
            <p:cNvSpPr/>
            <p:nvPr/>
          </p:nvSpPr>
          <p:spPr>
            <a:xfrm>
              <a:off x="3964680" y="5652720"/>
              <a:ext cx="369720" cy="1454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82"/>
            <p:cNvSpPr/>
            <p:nvPr/>
          </p:nvSpPr>
          <p:spPr>
            <a:xfrm>
              <a:off x="4809240" y="5641560"/>
              <a:ext cx="12384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3"/>
            <p:cNvSpPr/>
            <p:nvPr/>
          </p:nvSpPr>
          <p:spPr>
            <a:xfrm>
              <a:off x="3520440" y="5353560"/>
              <a:ext cx="1503720" cy="2628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84"/>
            <p:cNvSpPr/>
            <p:nvPr/>
          </p:nvSpPr>
          <p:spPr>
            <a:xfrm>
              <a:off x="4069800" y="566136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85"/>
            <p:cNvSpPr/>
            <p:nvPr/>
          </p:nvSpPr>
          <p:spPr>
            <a:xfrm>
              <a:off x="3984120" y="566136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86"/>
            <p:cNvSpPr/>
            <p:nvPr/>
          </p:nvSpPr>
          <p:spPr>
            <a:xfrm>
              <a:off x="4251960" y="5661360"/>
              <a:ext cx="63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87"/>
            <p:cNvSpPr/>
            <p:nvPr/>
          </p:nvSpPr>
          <p:spPr>
            <a:xfrm>
              <a:off x="4547160" y="566136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88"/>
            <p:cNvSpPr/>
            <p:nvPr/>
          </p:nvSpPr>
          <p:spPr>
            <a:xfrm>
              <a:off x="4480920" y="56613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89"/>
            <p:cNvSpPr/>
            <p:nvPr/>
          </p:nvSpPr>
          <p:spPr>
            <a:xfrm>
              <a:off x="4671000" y="56613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0"/>
            <p:cNvSpPr/>
            <p:nvPr/>
          </p:nvSpPr>
          <p:spPr>
            <a:xfrm>
              <a:off x="4632120" y="5487840"/>
              <a:ext cx="7416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1"/>
            <p:cNvSpPr/>
            <p:nvPr/>
          </p:nvSpPr>
          <p:spPr>
            <a:xfrm>
              <a:off x="4734720" y="5487840"/>
              <a:ext cx="7668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2"/>
            <p:cNvSpPr/>
            <p:nvPr/>
          </p:nvSpPr>
          <p:spPr>
            <a:xfrm>
              <a:off x="4676760" y="5472720"/>
              <a:ext cx="8820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3"/>
            <p:cNvSpPr/>
            <p:nvPr/>
          </p:nvSpPr>
          <p:spPr>
            <a:xfrm>
              <a:off x="4731840" y="5505840"/>
              <a:ext cx="479520" cy="1216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4"/>
            <p:cNvSpPr/>
            <p:nvPr/>
          </p:nvSpPr>
          <p:spPr>
            <a:xfrm>
              <a:off x="5046480" y="580104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5"/>
            <p:cNvSpPr/>
            <p:nvPr/>
          </p:nvSpPr>
          <p:spPr>
            <a:xfrm>
              <a:off x="4982760" y="576324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6"/>
            <p:cNvSpPr/>
            <p:nvPr/>
          </p:nvSpPr>
          <p:spPr>
            <a:xfrm>
              <a:off x="4980240" y="5542200"/>
              <a:ext cx="22068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97"/>
            <p:cNvSpPr/>
            <p:nvPr/>
          </p:nvSpPr>
          <p:spPr>
            <a:xfrm>
              <a:off x="5150880" y="562752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8"/>
            <p:cNvSpPr/>
            <p:nvPr/>
          </p:nvSpPr>
          <p:spPr>
            <a:xfrm>
              <a:off x="4781160" y="5505840"/>
              <a:ext cx="306360" cy="950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99"/>
            <p:cNvSpPr/>
            <p:nvPr/>
          </p:nvSpPr>
          <p:spPr>
            <a:xfrm>
              <a:off x="4971960" y="562752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00"/>
            <p:cNvSpPr/>
            <p:nvPr/>
          </p:nvSpPr>
          <p:spPr>
            <a:xfrm>
              <a:off x="4767480" y="562752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1"/>
            <p:cNvSpPr/>
            <p:nvPr/>
          </p:nvSpPr>
          <p:spPr>
            <a:xfrm>
              <a:off x="1713960" y="5834880"/>
              <a:ext cx="121896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2"/>
            <p:cNvSpPr/>
            <p:nvPr/>
          </p:nvSpPr>
          <p:spPr>
            <a:xfrm>
              <a:off x="3255840" y="5693400"/>
              <a:ext cx="12384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3"/>
            <p:cNvSpPr/>
            <p:nvPr/>
          </p:nvSpPr>
          <p:spPr>
            <a:xfrm>
              <a:off x="3269880" y="5712840"/>
              <a:ext cx="7164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4"/>
            <p:cNvSpPr/>
            <p:nvPr/>
          </p:nvSpPr>
          <p:spPr>
            <a:xfrm>
              <a:off x="3269880" y="5743800"/>
              <a:ext cx="741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5"/>
            <p:cNvSpPr/>
            <p:nvPr/>
          </p:nvSpPr>
          <p:spPr>
            <a:xfrm>
              <a:off x="3269880" y="5735520"/>
              <a:ext cx="741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6"/>
            <p:cNvSpPr/>
            <p:nvPr/>
          </p:nvSpPr>
          <p:spPr>
            <a:xfrm>
              <a:off x="3269880" y="5777280"/>
              <a:ext cx="7992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7"/>
            <p:cNvSpPr/>
            <p:nvPr/>
          </p:nvSpPr>
          <p:spPr>
            <a:xfrm>
              <a:off x="3269880" y="5770440"/>
              <a:ext cx="7992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8"/>
            <p:cNvSpPr/>
            <p:nvPr/>
          </p:nvSpPr>
          <p:spPr>
            <a:xfrm>
              <a:off x="880560" y="5358960"/>
              <a:ext cx="838800" cy="62064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9"/>
            <p:cNvSpPr/>
            <p:nvPr/>
          </p:nvSpPr>
          <p:spPr>
            <a:xfrm>
              <a:off x="739800" y="5273640"/>
              <a:ext cx="1125360" cy="4168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0"/>
            <p:cNvSpPr/>
            <p:nvPr/>
          </p:nvSpPr>
          <p:spPr>
            <a:xfrm>
              <a:off x="1612080" y="5801040"/>
              <a:ext cx="21996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1"/>
            <p:cNvSpPr/>
            <p:nvPr/>
          </p:nvSpPr>
          <p:spPr>
            <a:xfrm>
              <a:off x="1242360" y="5851440"/>
              <a:ext cx="12924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7"/>
          <p:cNvSpPr/>
          <p:nvPr/>
        </p:nvSpPr>
        <p:spPr>
          <a:xfrm>
            <a:off x="2098800" y="1530360"/>
            <a:ext cx="54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1)x-5   -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3127320" y="1541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1239840" y="259380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两边都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3"/>
          <p:cNvGraphicFramePr/>
          <p:nvPr/>
        </p:nvGraphicFramePr>
        <p:xfrm>
          <a:off x="1714680" y="3168720"/>
          <a:ext cx="91728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168720"/>
                    <a:ext cx="91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3981600" y="2706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5737320" y="270684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除以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158840" y="2000160"/>
            <a:ext cx="54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2)-2x   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2190600" y="2001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0" descr="182"/>
          <p:cNvPicPr/>
          <p:nvPr/>
        </p:nvPicPr>
        <p:blipFill>
          <a:blip r:embed="rId3"/>
          <a:stretch/>
        </p:blipFill>
        <p:spPr>
          <a:xfrm>
            <a:off x="666720" y="5564160"/>
            <a:ext cx="7848720" cy="596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0" descr="gbbar"/>
          <p:cNvPicPr/>
          <p:nvPr/>
        </p:nvPicPr>
        <p:blipFill>
          <a:blip r:embed="rId4"/>
          <a:stretch/>
        </p:blipFill>
        <p:spPr>
          <a:xfrm>
            <a:off x="855720" y="704880"/>
            <a:ext cx="746280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1046160" y="2335320"/>
            <a:ext cx="68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两边都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_______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063800" y="32018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x-6x&lt;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66680" y="38466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427040" y="38289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&lt;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745080" y="243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5398920" y="241128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减去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793800" y="1785960"/>
            <a:ext cx="51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3)7x   6x -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1671480" y="180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674640" y="178920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等式的基本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等式的基本性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在等式两边都加上或减去同一个数或整式，结果仍相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等式的基本性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在等式两边都乘以或除以同一个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除数不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0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结果仍相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QQ截图20140828112823"/>
          <p:cNvPicPr/>
          <p:nvPr/>
        </p:nvPicPr>
        <p:blipFill>
          <a:blip r:embed="rId1"/>
          <a:stretch/>
        </p:blipFill>
        <p:spPr>
          <a:xfrm>
            <a:off x="595440" y="1403280"/>
            <a:ext cx="204768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98320" y="1138320"/>
            <a:ext cx="81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长方体形状的容器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cm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容器内原有水的高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现准备向它继续注水，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单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表示新注入水的体积，写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取值范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QQ截图20141118153031"/>
          <p:cNvPicPr/>
          <p:nvPr/>
        </p:nvPicPr>
        <p:blipFill>
          <a:blip r:embed="rId1"/>
          <a:stretch/>
        </p:blipFill>
        <p:spPr>
          <a:xfrm>
            <a:off x="139680" y="171360"/>
            <a:ext cx="2219400" cy="743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2"/>
          <a:stretch/>
        </p:blipFill>
        <p:spPr>
          <a:xfrm>
            <a:off x="5506920" y="3165480"/>
            <a:ext cx="228600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262080" y="317520"/>
            <a:ext cx="85392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解：新注入水的体积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与原有水的体积的和不能超过容器的容积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+3×5×3≤3×5×1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≤1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又由于新注入水的体积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不能是负数，因此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取值范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≥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并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≤1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在数轴上表示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V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取值范围如图所示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371520" y="4718160"/>
            <a:ext cx="7583400" cy="112068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4"/>
          <p:cNvSpPr/>
          <p:nvPr/>
        </p:nvSpPr>
        <p:spPr>
          <a:xfrm>
            <a:off x="6192720" y="3230640"/>
            <a:ext cx="2556000" cy="1482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表示</a:t>
            </a: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和</a:t>
            </a: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105</a:t>
            </a: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的点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实心圆点，表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取值范围包括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两个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371600" y="213408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判断正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860400" y="2676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5997600" y="277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5997600" y="336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6006960" y="399564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1" descr="图片2"/>
          <p:cNvPicPr/>
          <p:nvPr/>
        </p:nvPicPr>
        <p:blipFill>
          <a:blip r:embed="rId1"/>
          <a:stretch/>
        </p:blipFill>
        <p:spPr>
          <a:xfrm>
            <a:off x="584280" y="1366920"/>
            <a:ext cx="2376360" cy="60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793800" y="137628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已知不等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b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试比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大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79400" y="2027160"/>
            <a:ext cx="64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等式两边都减去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a+2b)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a+2b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a+2b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56440" y="3710160"/>
            <a:ext cx="2452320" cy="2754000"/>
            <a:chOff x="6256440" y="3710160"/>
            <a:chExt cx="2452320" cy="2754000"/>
          </a:xfrm>
        </p:grpSpPr>
        <p:pic>
          <p:nvPicPr>
            <p:cNvPr id="542" name="Picture 5" descr="bsj"/>
            <p:cNvPicPr/>
            <p:nvPr/>
          </p:nvPicPr>
          <p:blipFill>
            <a:blip r:embed="rId1"/>
            <a:stretch/>
          </p:blipFill>
          <p:spPr>
            <a:xfrm>
              <a:off x="6256440" y="438120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bsj"/>
            <p:cNvPicPr/>
            <p:nvPr/>
          </p:nvPicPr>
          <p:blipFill>
            <a:blip r:embed="rId2"/>
            <a:stretch/>
          </p:blipFill>
          <p:spPr>
            <a:xfrm>
              <a:off x="7228080" y="3710160"/>
              <a:ext cx="1480680" cy="27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7" descr="bsj"/>
            <p:cNvPicPr/>
            <p:nvPr/>
          </p:nvPicPr>
          <p:blipFill>
            <a:blip r:embed="rId3"/>
            <a:stretch/>
          </p:blipFill>
          <p:spPr>
            <a:xfrm>
              <a:off x="7228080" y="484416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28640" y="1415880"/>
            <a:ext cx="2092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填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728640" y="2495520"/>
            <a:ext cx="78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1)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因为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a&lt;3a 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所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728640" y="437688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x&lt;a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且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x&gt;1,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所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728640" y="34480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因为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所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2184480" y="3327480"/>
                <a:ext cx="1116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Text Box 7"/>
          <p:cNvSpPr/>
          <p:nvPr/>
        </p:nvSpPr>
        <p:spPr>
          <a:xfrm>
            <a:off x="4424400" y="2468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4664160" y="3438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5234040" y="44830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4"/>
          <p:cNvGrpSpPr/>
          <p:nvPr/>
        </p:nvGrpSpPr>
        <p:grpSpPr>
          <a:xfrm>
            <a:off x="6181560" y="3613320"/>
            <a:ext cx="2452320" cy="2754000"/>
            <a:chOff x="6181560" y="3613320"/>
            <a:chExt cx="2452320" cy="2754000"/>
          </a:xfrm>
        </p:grpSpPr>
        <p:pic>
          <p:nvPicPr>
            <p:cNvPr id="554" name="Picture 15" descr="bsj"/>
            <p:cNvPicPr/>
            <p:nvPr/>
          </p:nvPicPr>
          <p:blipFill>
            <a:blip r:embed="rId1"/>
            <a:stretch/>
          </p:blipFill>
          <p:spPr>
            <a:xfrm>
              <a:off x="6181560" y="428436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16" descr="bsj"/>
            <p:cNvPicPr/>
            <p:nvPr/>
          </p:nvPicPr>
          <p:blipFill>
            <a:blip r:embed="rId2"/>
            <a:stretch/>
          </p:blipFill>
          <p:spPr>
            <a:xfrm>
              <a:off x="7153200" y="3613320"/>
              <a:ext cx="1480680" cy="27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17" descr="bsj"/>
            <p:cNvPicPr/>
            <p:nvPr/>
          </p:nvPicPr>
          <p:blipFill>
            <a:blip r:embed="rId3"/>
            <a:stretch/>
          </p:blipFill>
          <p:spPr>
            <a:xfrm>
              <a:off x="7153200" y="474732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7" name="Picture 17" descr="图片3"/>
          <p:cNvPicPr/>
          <p:nvPr/>
        </p:nvPicPr>
        <p:blipFill>
          <a:blip r:embed="rId4"/>
          <a:stretch/>
        </p:blipFill>
        <p:spPr>
          <a:xfrm>
            <a:off x="482760" y="755640"/>
            <a:ext cx="3119400" cy="8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998640" y="1422360"/>
            <a:ext cx="693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无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考）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&gt;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则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A)a&gt;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              (B)a&lt;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C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a&gt;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b          (D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a&lt;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961920" y="3092400"/>
            <a:ext cx="75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等式的两边都乘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不等号的方向改变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6194520" y="3506760"/>
            <a:ext cx="2452320" cy="2754360"/>
            <a:chOff x="6194520" y="3506760"/>
            <a:chExt cx="2452320" cy="2754360"/>
          </a:xfrm>
        </p:grpSpPr>
        <p:pic>
          <p:nvPicPr>
            <p:cNvPr id="561" name="Picture 5" descr="bsj"/>
            <p:cNvPicPr/>
            <p:nvPr/>
          </p:nvPicPr>
          <p:blipFill>
            <a:blip r:embed="rId1"/>
            <a:stretch/>
          </p:blipFill>
          <p:spPr>
            <a:xfrm>
              <a:off x="6194520" y="417780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6" descr="bsj"/>
            <p:cNvPicPr/>
            <p:nvPr/>
          </p:nvPicPr>
          <p:blipFill>
            <a:blip r:embed="rId2"/>
            <a:stretch/>
          </p:blipFill>
          <p:spPr>
            <a:xfrm>
              <a:off x="7166160" y="3506760"/>
              <a:ext cx="148068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7" descr="bsj"/>
            <p:cNvPicPr/>
            <p:nvPr/>
          </p:nvPicPr>
          <p:blipFill>
            <a:blip r:embed="rId3"/>
            <a:stretch/>
          </p:blipFill>
          <p:spPr>
            <a:xfrm>
              <a:off x="7166160" y="464076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6"/>
          <p:cNvSpPr/>
          <p:nvPr/>
        </p:nvSpPr>
        <p:spPr>
          <a:xfrm>
            <a:off x="665280" y="189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泰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考）不等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x+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-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解集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754200" y="2676600"/>
            <a:ext cx="41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&gt;-6,x&gt;-3.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927000" y="342756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x&gt;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10"/>
          <p:cNvGrpSpPr/>
          <p:nvPr/>
        </p:nvGrpSpPr>
        <p:grpSpPr>
          <a:xfrm>
            <a:off x="657360" y="5581800"/>
            <a:ext cx="7698960" cy="605880"/>
            <a:chOff x="657360" y="5581800"/>
            <a:chExt cx="7698960" cy="605880"/>
          </a:xfrm>
        </p:grpSpPr>
        <p:pic>
          <p:nvPicPr>
            <p:cNvPr id="568" name="Picture 5" descr="花动画图片"/>
            <p:cNvPicPr/>
            <p:nvPr/>
          </p:nvPicPr>
          <p:blipFill>
            <a:blip r:embed="rId1"/>
            <a:stretch/>
          </p:blipFill>
          <p:spPr>
            <a:xfrm>
              <a:off x="3591360" y="5637240"/>
              <a:ext cx="3298680" cy="5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5" descr="花动画图片"/>
            <p:cNvPicPr/>
            <p:nvPr/>
          </p:nvPicPr>
          <p:blipFill>
            <a:blip r:embed="rId2"/>
            <a:stretch/>
          </p:blipFill>
          <p:spPr>
            <a:xfrm flipH="1">
              <a:off x="3506040" y="5628960"/>
              <a:ext cx="2932920" cy="5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5" descr="花动画图片"/>
            <p:cNvPicPr/>
            <p:nvPr/>
          </p:nvPicPr>
          <p:blipFill>
            <a:blip r:embed="rId3"/>
            <a:stretch/>
          </p:blipFill>
          <p:spPr>
            <a:xfrm>
              <a:off x="657360" y="5617800"/>
              <a:ext cx="32986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5" descr="花动画图片"/>
            <p:cNvPicPr/>
            <p:nvPr/>
          </p:nvPicPr>
          <p:blipFill>
            <a:blip r:embed="rId4"/>
            <a:stretch/>
          </p:blipFill>
          <p:spPr>
            <a:xfrm>
              <a:off x="5057640" y="5634720"/>
              <a:ext cx="3298680" cy="5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" descr="花动画图片"/>
            <p:cNvPicPr/>
            <p:nvPr/>
          </p:nvPicPr>
          <p:blipFill>
            <a:blip r:embed="rId5"/>
            <a:stretch/>
          </p:blipFill>
          <p:spPr>
            <a:xfrm flipH="1">
              <a:off x="3506040" y="5628960"/>
              <a:ext cx="2932920" cy="5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5" descr="花动画图片"/>
            <p:cNvPicPr/>
            <p:nvPr/>
          </p:nvPicPr>
          <p:blipFill>
            <a:blip r:embed="rId6"/>
            <a:stretch/>
          </p:blipFill>
          <p:spPr>
            <a:xfrm flipH="1">
              <a:off x="855000" y="5581800"/>
              <a:ext cx="2921040" cy="5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5" descr="花动画图片"/>
            <p:cNvPicPr/>
            <p:nvPr/>
          </p:nvPicPr>
          <p:blipFill>
            <a:blip r:embed="rId7"/>
            <a:stretch/>
          </p:blipFill>
          <p:spPr>
            <a:xfrm>
              <a:off x="5057640" y="5634720"/>
              <a:ext cx="3298680" cy="55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623880" y="1424160"/>
            <a:ext cx="763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上海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考）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那么下列不等式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立的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A)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c             (B)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C)a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c                 (D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Object 3"/>
          <p:cNvGraphicFramePr/>
          <p:nvPr/>
        </p:nvGraphicFramePr>
        <p:xfrm>
          <a:off x="5213520" y="3102120"/>
          <a:ext cx="831600" cy="79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3102120"/>
                    <a:ext cx="8316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5"/>
          <p:cNvSpPr/>
          <p:nvPr/>
        </p:nvSpPr>
        <p:spPr>
          <a:xfrm>
            <a:off x="654120" y="3984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知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7"/>
          <p:cNvGrpSpPr/>
          <p:nvPr/>
        </p:nvGrpSpPr>
        <p:grpSpPr>
          <a:xfrm>
            <a:off x="752400" y="5568840"/>
            <a:ext cx="7698960" cy="606240"/>
            <a:chOff x="752400" y="5568840"/>
            <a:chExt cx="7698960" cy="606240"/>
          </a:xfrm>
        </p:grpSpPr>
        <p:pic>
          <p:nvPicPr>
            <p:cNvPr id="580" name="Picture 5" descr="花动画图片"/>
            <p:cNvPicPr/>
            <p:nvPr/>
          </p:nvPicPr>
          <p:blipFill>
            <a:blip r:embed="rId3"/>
            <a:stretch/>
          </p:blipFill>
          <p:spPr>
            <a:xfrm>
              <a:off x="3686400" y="5624280"/>
              <a:ext cx="32986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5" descr="花动画图片"/>
            <p:cNvPicPr/>
            <p:nvPr/>
          </p:nvPicPr>
          <p:blipFill>
            <a:blip r:embed="rId4"/>
            <a:stretch/>
          </p:blipFill>
          <p:spPr>
            <a:xfrm flipH="1">
              <a:off x="3601080" y="5616000"/>
              <a:ext cx="2932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5" descr="花动画图片"/>
            <p:cNvPicPr/>
            <p:nvPr/>
          </p:nvPicPr>
          <p:blipFill>
            <a:blip r:embed="rId5"/>
            <a:stretch/>
          </p:blipFill>
          <p:spPr>
            <a:xfrm>
              <a:off x="752400" y="5604840"/>
              <a:ext cx="32986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5" descr="花动画图片"/>
            <p:cNvPicPr/>
            <p:nvPr/>
          </p:nvPicPr>
          <p:blipFill>
            <a:blip r:embed="rId6"/>
            <a:stretch/>
          </p:blipFill>
          <p:spPr>
            <a:xfrm>
              <a:off x="5152680" y="5622120"/>
              <a:ext cx="32986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5" descr="花动画图片"/>
            <p:cNvPicPr/>
            <p:nvPr/>
          </p:nvPicPr>
          <p:blipFill>
            <a:blip r:embed="rId7"/>
            <a:stretch/>
          </p:blipFill>
          <p:spPr>
            <a:xfrm flipH="1">
              <a:off x="3601080" y="5616000"/>
              <a:ext cx="2932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5" descr="花动画图片"/>
            <p:cNvPicPr/>
            <p:nvPr/>
          </p:nvPicPr>
          <p:blipFill>
            <a:blip r:embed="rId8"/>
            <a:stretch/>
          </p:blipFill>
          <p:spPr>
            <a:xfrm flipH="1">
              <a:off x="950040" y="5568840"/>
              <a:ext cx="292104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" descr="花动画图片"/>
            <p:cNvPicPr/>
            <p:nvPr/>
          </p:nvPicPr>
          <p:blipFill>
            <a:blip r:embed="rId9"/>
            <a:stretch/>
          </p:blipFill>
          <p:spPr>
            <a:xfrm>
              <a:off x="5152680" y="5622120"/>
              <a:ext cx="329868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531720" y="22334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　不等式两边加（或减）同一个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或式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不等号的方向不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31720" y="346860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两边乘（或除以）同一个正数，不等号的方向不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31720" y="4738680"/>
            <a:ext cx="82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两边乘（或除以）同一个负数，不等号的方向改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603360" y="1606680"/>
            <a:ext cx="71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9" descr="课堂小结"/>
          <p:cNvPicPr/>
          <p:nvPr/>
        </p:nvPicPr>
        <p:blipFill>
          <a:blip r:embed="rId1"/>
          <a:stretch/>
        </p:blipFill>
        <p:spPr>
          <a:xfrm>
            <a:off x="3114720" y="746280"/>
            <a:ext cx="2873160" cy="707760"/>
          </a:xfrm>
          <a:prstGeom prst="rect">
            <a:avLst/>
          </a:prstGeom>
          <a:ln w="0">
            <a:noFill/>
          </a:ln>
        </p:spPr>
      </p:pic>
      <p:pic>
        <p:nvPicPr>
          <p:cNvPr id="592" name="WordArt 7" descr=""/>
          <p:cNvPicPr/>
          <p:nvPr/>
        </p:nvPicPr>
        <p:blipFill>
          <a:blip r:embed="rId2"/>
          <a:stretch/>
        </p:blipFill>
        <p:spPr>
          <a:xfrm>
            <a:off x="7381800" y="6168960"/>
            <a:ext cx="16956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92120" y="1222200"/>
            <a:ext cx="62308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不等式的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819000" y="30211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要注意区分“大于” “不大于”“小于”“不小于”等数学语言的使用，并把这些表示不等关系的语言用数学符号准确地表达出来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95240" y="4762440"/>
            <a:ext cx="76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在数轴上表示解集应注意的问题：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方向、空心或实心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819000" y="182088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在运用性质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要特别注意：不等式两边都乘以或除以同一个负数时，要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改变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不等号的方向</a:t>
            </a: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P101"/>
          <p:cNvPicPr/>
          <p:nvPr/>
        </p:nvPicPr>
        <p:blipFill>
          <a:blip r:embed="rId1"/>
          <a:stretch/>
        </p:blipFill>
        <p:spPr>
          <a:xfrm>
            <a:off x="7340760" y="4633920"/>
            <a:ext cx="1245960" cy="19209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图片2"/>
          <p:cNvPicPr/>
          <p:nvPr/>
        </p:nvPicPr>
        <p:blipFill>
          <a:blip r:embed="rId2"/>
          <a:stretch/>
        </p:blipFill>
        <p:spPr>
          <a:xfrm>
            <a:off x="2760840" y="249120"/>
            <a:ext cx="313200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322200" y="3030480"/>
            <a:ext cx="80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1)5&gt;3,    5+2___3+2 ,   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___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 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　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2)-1&lt;3,   -1+2___3+2 ,   -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___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01560" y="4224240"/>
            <a:ext cx="854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根据发现的规律填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当不等式两边加或减同一个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或负数）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号的方向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940200" y="48481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792520" y="3184560"/>
            <a:ext cx="10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051520" y="3179880"/>
            <a:ext cx="10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144960" y="3716280"/>
            <a:ext cx="5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5682960" y="373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38280" y="2592360"/>
            <a:ext cx="71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用“﹥”或“﹤”填空，并总结其中的规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图片1"/>
          <p:cNvPicPr/>
          <p:nvPr/>
        </p:nvPicPr>
        <p:blipFill>
          <a:blip r:embed="rId1"/>
          <a:stretch/>
        </p:blipFill>
        <p:spPr>
          <a:xfrm>
            <a:off x="690480" y="1852560"/>
            <a:ext cx="237672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525600" y="16066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3) 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, 6×5____2×5 , 6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-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2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-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25600" y="2538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4)–2&lt;3, (-2)×6___3×6 , (-2) 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-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3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3335400" y="2160720"/>
            <a:ext cx="4248000" cy="961920"/>
            <a:chOff x="3335400" y="2160720"/>
            <a:chExt cx="4248000" cy="961920"/>
          </a:xfrm>
        </p:grpSpPr>
        <p:sp>
          <p:nvSpPr>
            <p:cNvPr id="256" name="Text Box 5"/>
            <p:cNvSpPr/>
            <p:nvPr/>
          </p:nvSpPr>
          <p:spPr>
            <a:xfrm>
              <a:off x="3335400" y="223380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6935760" y="216072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3406680" y="259416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"/>
            <p:cNvSpPr/>
            <p:nvPr/>
          </p:nvSpPr>
          <p:spPr>
            <a:xfrm>
              <a:off x="7007400" y="2665440"/>
              <a:ext cx="57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9"/>
          <p:cNvSpPr/>
          <p:nvPr/>
        </p:nvSpPr>
        <p:spPr>
          <a:xfrm>
            <a:off x="546120" y="3197160"/>
            <a:ext cx="81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当不等式两边乘同一个正数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号的方向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6014880" y="3282840"/>
            <a:ext cx="19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609480" y="3863880"/>
            <a:ext cx="83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而乘同一个负数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号的方向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5132520" y="39276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2921760" y="158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929920" y="157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310560" y="252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6839640" y="253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7" descr="04"/>
          <p:cNvPicPr/>
          <p:nvPr/>
        </p:nvPicPr>
        <p:blipFill>
          <a:blip r:embed="rId1"/>
          <a:stretch/>
        </p:blipFill>
        <p:spPr>
          <a:xfrm>
            <a:off x="622440" y="5878440"/>
            <a:ext cx="7827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19280" y="1162080"/>
            <a:ext cx="3208320" cy="2176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528480" y="3162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6c3f2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6c3f2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两边加（或减）同一个数（或式子），不等号的方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4896000" y="1273320"/>
            <a:ext cx="3276360" cy="1892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671400" y="4446720"/>
            <a:ext cx="6542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字母表示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±c____b±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600360" y="49878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42920" y="1263600"/>
            <a:ext cx="3137040" cy="2127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00720" y="1316160"/>
            <a:ext cx="3024000" cy="1887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671400" y="32925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两边乘（或除以）同一个正数，不等号的方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60520" y="5051520"/>
            <a:ext cx="75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,c&gt;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c____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2560" y="45594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字母表示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983040" y="504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8"/>
          <p:cNvGraphicFramePr/>
          <p:nvPr/>
        </p:nvGraphicFramePr>
        <p:xfrm>
          <a:off x="4856040" y="4984920"/>
          <a:ext cx="208944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4984920"/>
                    <a:ext cx="20894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9"/>
          <p:cNvSpPr/>
          <p:nvPr/>
        </p:nvSpPr>
        <p:spPr>
          <a:xfrm>
            <a:off x="591012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1042920" y="3259080"/>
            <a:ext cx="651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字母表示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c ____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752720" y="3738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5724360" y="3668760"/>
                <a:ext cx="15051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或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___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Text Box 7"/>
          <p:cNvSpPr/>
          <p:nvPr/>
        </p:nvSpPr>
        <p:spPr>
          <a:xfrm>
            <a:off x="6424560" y="375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182"/>
          <p:cNvPicPr/>
          <p:nvPr/>
        </p:nvPicPr>
        <p:blipFill>
          <a:blip r:embed="rId1"/>
          <a:stretch/>
        </p:blipFill>
        <p:spPr>
          <a:xfrm>
            <a:off x="631800" y="5576760"/>
            <a:ext cx="7848720" cy="596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gbbar"/>
          <p:cNvPicPr/>
          <p:nvPr/>
        </p:nvPicPr>
        <p:blipFill>
          <a:blip r:embed="rId2"/>
          <a:stretch/>
        </p:blipFill>
        <p:spPr>
          <a:xfrm>
            <a:off x="674640" y="692280"/>
            <a:ext cx="7462800" cy="4791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1036800" y="1994040"/>
            <a:ext cx="72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不等式两边乘（或除以）同一个负数，不等号的方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改变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560520" y="1756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设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用“＜”“＞”填空并回答是根据不等式的哪一条基本性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98600" y="2489040"/>
            <a:ext cx="788508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 - 3____b - 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÷3____b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0.1a____0.1b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-4a____-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a+3____2b+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+1)a____ (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+1)b(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为常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49696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398680" y="3259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401920" y="383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2333520" y="4994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620800" y="559584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279520" y="4430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4124160" y="265428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4124160" y="325584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4124160" y="386856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4124160" y="445788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4124160" y="503388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5751360" y="5610240"/>
            <a:ext cx="42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等式的性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6" descr="QQ截图20140828112236"/>
          <p:cNvPicPr/>
          <p:nvPr/>
        </p:nvPicPr>
        <p:blipFill>
          <a:blip r:embed="rId1"/>
          <a:stretch/>
        </p:blipFill>
        <p:spPr>
          <a:xfrm>
            <a:off x="353880" y="1041480"/>
            <a:ext cx="179100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328760" y="1579680"/>
            <a:ext cx="70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用“＜”“＞”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1)a+2 ____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 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2)a-1 _____-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3)3a______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4)-   ______0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5)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_0;    (6)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______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7)a-1_____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 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(8)|a|______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705200" y="359712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343240" y="285264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057640" y="212256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290680" y="3598920"/>
            <a:ext cx="5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505240" y="211464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149800" y="2894040"/>
            <a:ext cx="5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467080" y="432108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054760" y="4292640"/>
            <a:ext cx="5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11"/>
          <p:cNvGraphicFramePr/>
          <p:nvPr/>
        </p:nvGraphicFramePr>
        <p:xfrm>
          <a:off x="4602240" y="297648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297648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Picture 13" descr="182"/>
          <p:cNvPicPr/>
          <p:nvPr/>
        </p:nvPicPr>
        <p:blipFill>
          <a:blip r:embed="rId3"/>
          <a:stretch/>
        </p:blipFill>
        <p:spPr>
          <a:xfrm>
            <a:off x="560520" y="5603760"/>
            <a:ext cx="784836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0:33:03Z</dcterms:created>
  <dc:creator>www.12999.com</dc:creator>
  <dc:description/>
  <cp:keywords/>
  <dc:language>en-US</dc:language>
  <cp:lastModifiedBy>xue hongmiao</cp:lastModifiedBy>
  <dcterms:modified xsi:type="dcterms:W3CDTF">2018-05-02T09:42:47Z</dcterms:modified>
  <cp:revision>62</cp:revision>
  <dc:subject>www.12999.com</dc:subject>
  <dc:title>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